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143D-E7D6-4BC2-9366-C1AF1AB9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9D34-60E5-4829-BBEA-F560D731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07FE-8100-44A6-BBE4-880C36F9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3812-4B8C-4E9C-A770-5DDBCB49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9812-C1AC-4AE3-B833-0EB15C22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16E-7976-47DE-B25A-6079F503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742F-45FB-4B67-9A42-64D2AFF6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2563-8D2E-4404-83CC-98E7658D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08F-B4D3-476A-AEF0-1F5BD18C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5190-47F7-486A-988D-F87550DD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4D61-EB46-4A1F-9321-A063CFC3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3126-9673-46B0-8889-712D7273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4A9A-66BE-4755-9289-588113A74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10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gen Ions from water (water molecule highly po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828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 water molecule that loses a hydrogen ion becomes a negatively charged hydroxide ion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666880"/>
            <a:ext cx="7543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ater molecule that gains a hydrogen ion becomes a positively charged hydronium ion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35053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molecules produce ions we call this reaction self-ionization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419720"/>
            <a:ext cx="716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+    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4572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43792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4800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ydrogen 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4724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ydroxide 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Guide 10-2 day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371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hydrogen-ion concentrate of a solution is used to classify the solution as acidic, neutral, or ba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1418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ommon pH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548640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ing pH from [H+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219320"/>
            <a:ext cx="7696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hen we know the amount of hydrogen-ion concentration, we can find out what the pH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 = -log[H+]     See sample problem 19.2  pg. 599 and do 11 and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514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ing [H+] from 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819520"/>
            <a:ext cx="76201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find out what the hydrogen-ion concentration is in a solution if we know the p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log[H+] = pH   see sample problem 19.3 pg. 600 and do 13 and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40384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ing 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4419720"/>
            <a:ext cx="74678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ing the pH of a solution is important in everyday lif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soil needs the right pH to grow plants…swimming p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ing pH from [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371600"/>
            <a:ext cx="7391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first step involves finding out what the  H+ concentration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w = [OH-] x [H+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22096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ith [H+] calculated, now use pH = -log[H+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259092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sample problem 19.4 and do 15 and 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elf ionization of water occurs to a small ext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716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ure water at 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 is at equilibrium between concentrations of [H+] and 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22096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ny solution in which 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and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are equal is called neutral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8954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 Product constant for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3200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+] increases, 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decreases and vice 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3733920"/>
            <a:ext cx="784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 +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q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809880" y="4191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41911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or aqueous solutions, the product of the hydrogen-ion concentration and the hydroxide ion concentration equals 1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x 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1447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quation OK dilute (aq) solutions at 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1981080"/>
            <a:ext cx="7696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roduct of the concentrations of the hydrogen-ion and hydroxide-ions in water = ion-product constant for water 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3200400"/>
            <a:ext cx="723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x 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3733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t all solutions are neutral, some, like HCl (hydrochloric acid, have a greater hydrogen-ion [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concentration than hydroxide ion 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concentration = acidic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9528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4952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hydrogen 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centration is less th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ydroxide 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tion it’s a bas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(also called alkaline solu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16002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Sodium hydroxide (NaO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25146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&lt; 1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28954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e can find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of a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3276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sample problem page 5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35053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41148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38098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cale used to check acidity: (0-14) whereas 0 is strongly acidic, 7 is neutral, and 14 is strongly b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495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 is negative logarithm of the 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concen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4876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 = -log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olution in whic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is greater than 1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h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H less than 7.0 = acid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1676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olution in which [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is less than 1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21337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 &lt; 7.0 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is greater than 1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514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 = 7.0 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equals 1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 &gt; 7.0 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is less than 1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ewis acid is a substance tha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TPChart"/>
          <p:cNvGraphicFramePr/>
          <p:nvPr/>
        </p:nvGraphicFramePr>
        <p:xfrm>
          <a:off x="533520" y="1841400"/>
          <a:ext cx="873756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41400"/>
                    <a:ext cx="87375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CorShape1"/>
          <p:cNvSpPr/>
          <p:nvPr/>
        </p:nvSpPr>
        <p:spPr>
          <a:xfrm>
            <a:off x="6400800" y="327672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pt a hydrogen 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ate a hydrogen 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pt a pair of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ate a pair of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TPChart"/>
          <p:cNvGraphicFramePr/>
          <p:nvPr/>
        </p:nvGraphicFramePr>
        <p:xfrm>
          <a:off x="457200" y="1841400"/>
          <a:ext cx="8813880" cy="23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41400"/>
                    <a:ext cx="881388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CorShape1"/>
          <p:cNvSpPr/>
          <p:nvPr/>
        </p:nvSpPr>
        <p:spPr>
          <a:xfrm>
            <a:off x="1752480" y="3200400"/>
            <a:ext cx="254160" cy="2541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+ log of the hydroxide ion conc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– log of the hydroxide ion conc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– log of the hydrogen ion conc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+ log of the hydrogen ion conc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ransferred between a conjugate acid-base pa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lect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ydronium 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ydroxide 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CorShape1"/>
          <p:cNvSpPr/>
          <p:nvPr/>
        </p:nvSpPr>
        <p:spPr>
          <a:xfrm>
            <a:off x="2819520" y="350532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mula of the hydrogen ion is often written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CorShape1"/>
          <p:cNvSpPr/>
          <p:nvPr/>
        </p:nvSpPr>
        <p:spPr>
          <a:xfrm>
            <a:off x="1752480" y="2286000"/>
            <a:ext cx="29232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2:47:27Z</dcterms:created>
  <dc:creator>Farwell Area Schools</dc:creator>
  <dc:description/>
  <dc:language>en-US</dc:language>
  <cp:lastModifiedBy>Farwell Area Schools</cp:lastModifiedBy>
  <dcterms:modified xsi:type="dcterms:W3CDTF">2009-05-15T13:34:20Z</dcterms:modified>
  <cp:revision>33</cp:revision>
  <dc:subject/>
  <dc:title>Note Guide 10-2</dc:title>
</cp:coreProperties>
</file>